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256F-500A-484A-8141-08D37F27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B5B5-C98E-4708-A530-47C1F1DED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ED4-7AAF-46C2-8830-C828626B3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0C48-718B-4D25-B3AF-3974494F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19F7-4FFD-4837-A5FB-A860C346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C1DF-B38B-442D-962D-E560009C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179-0676-4E3C-8704-B9F83605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6E3-2750-4E07-9A79-C6CCF59C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D49-B328-464C-BF36-020F12258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18D6-9CE7-43ED-A5A7-07A71E0C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3BAB-7222-4C2A-8FFC-51A4DBB7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C98-1B94-45CB-9B03-F4A3D4C3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05EE0-C9BE-4D1E-85C6-BD8927D8A33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838080"/>
            <a:ext cx="763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第十四章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棘头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Acanthocepha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楷体"/>
                <a:ea typeface="楷体"/>
              </a:rPr>
              <a:t>猪巨吻棘头虫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Macracanthorhynch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 </a:t>
            </a:r>
            <a:r>
              <a:rPr b="1" i="1" lang="en-US" sz="3600" spc="-1" strike="noStrike">
                <a:solidFill>
                  <a:srgbClr val="0000cc"/>
                </a:solidFill>
                <a:latin typeface="Times New Roman"/>
                <a:ea typeface="楷体"/>
              </a:rPr>
              <a:t>hirudinace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5410080"/>
            <a:ext cx="325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"/>
              </a:rPr>
              <a:t>刘俊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82680" y="384120"/>
            <a:ext cx="8456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14ac"/>
                </a:solidFill>
                <a:latin typeface="宋体"/>
              </a:rPr>
              <a:t>              </a:t>
            </a: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六、防 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卫生知识的宣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教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，不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捕食甲虫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加强猪的饲养管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查治感染者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尚无理想的驱虫药物，早期患者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苯达唑和甲苯咪唑有一定疗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并发症的处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手术治疗为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99072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猪巨吻棘头虫是一种大型蠕虫，成虫寄生于猪的小肠内，偶尔也可寄生人体小肠，引起猪巨吻棘头虫病。是一种人兽共患寄生虫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60991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成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 活体时背腹略扁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固定后为圆柱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体色  乳白色或淡红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14a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雌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雄虫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c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971800" y="53352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一、形 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172200" y="1143000"/>
            <a:ext cx="2338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225440" y="179244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6360" y="1295280"/>
            <a:ext cx="8685360" cy="33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结构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吻突：类球形，可伸缩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尖锐透明吻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颈部：短，圆柱形，与吻鞘相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躯干：雌虫尾部钝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雄虫尾端有钟形交合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2209680"/>
            <a:ext cx="153720" cy="2287800"/>
          </a:xfrm>
          <a:custGeom>
            <a:avLst/>
            <a:gdLst>
              <a:gd name="textAreaLeft" fmla="*/ 98280 w 153720"/>
              <a:gd name="textAreaRight" fmla="*/ 154080 w 153720"/>
              <a:gd name="textAreaTop" fmla="*/ 59400 h 2287800"/>
              <a:gd name="textAreaBottom" fmla="*/ 2228400 h 228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14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90360" y="380880"/>
            <a:ext cx="388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虫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14ac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1066680"/>
            <a:ext cx="7721640" cy="41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外形 </a:t>
            </a:r>
            <a:r>
              <a:rPr b="1" lang="zh-CN" sz="3200" spc="-1" strike="noStrike">
                <a:solidFill>
                  <a:srgbClr val="0014ac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椭圆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大小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×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5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m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颜色  棕褐色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卵壳  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闭合不全，透明状，易破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内含物  有小钩的棘头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581280" y="4648320"/>
            <a:ext cx="2664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感染性棘头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3880" y="1676520"/>
            <a:ext cx="10810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成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553080" y="1676520"/>
            <a:ext cx="1008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418000">
            <a:off x="1890000" y="363168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终宿主等经口感染小肠内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1523880"/>
            <a:ext cx="2519640" cy="110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雌虫产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虫卵随粪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便排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rot="2693400">
            <a:off x="5858640" y="2891520"/>
            <a:ext cx="1511280" cy="21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中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宿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鞘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目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90920" y="2057400"/>
            <a:ext cx="3887640" cy="144360"/>
          </a:xfrm>
          <a:prstGeom prst="rightArrow">
            <a:avLst>
              <a:gd name="adj1" fmla="val 50000"/>
              <a:gd name="adj2" fmla="val 673254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2899800">
            <a:off x="5813640" y="1805760"/>
            <a:ext cx="146160" cy="3240360"/>
          </a:xfrm>
          <a:prstGeom prst="downArrow">
            <a:avLst>
              <a:gd name="adj1" fmla="val 50000"/>
              <a:gd name="adj2" fmla="val 55424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2485800">
            <a:off x="1447560" y="3352680"/>
            <a:ext cx="3311280" cy="146160"/>
          </a:xfrm>
          <a:prstGeom prst="leftArrow">
            <a:avLst>
              <a:gd name="adj1" fmla="val 50000"/>
              <a:gd name="adj2" fmla="val 566379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895480" y="533520"/>
            <a:ext cx="39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二、生活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9063800">
            <a:off x="5241240" y="3047760"/>
            <a:ext cx="10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2476800">
            <a:off x="2818800" y="3276360"/>
            <a:ext cx="156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～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228240"/>
            <a:ext cx="8461080" cy="63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14ac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14ac"/>
                </a:solidFill>
                <a:latin typeface="宋体"/>
              </a:rPr>
              <a:t>        </a:t>
            </a:r>
            <a:r>
              <a:rPr b="1" lang="zh-CN" sz="3600" spc="-1" strike="noStrike">
                <a:solidFill>
                  <a:srgbClr val="0014ac"/>
                </a:solidFill>
                <a:latin typeface="宋体"/>
              </a:rPr>
              <a:t>三、致 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1.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致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病</a:t>
            </a:r>
            <a:r>
              <a:rPr b="1" lang="en-US" sz="2400" spc="-1" strike="noStrike">
                <a:solidFill>
                  <a:srgbClr val="0000cc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黏膜组织充血、出血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溃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疡、坏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缔组织增生形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棘头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虫体结节与大网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肠系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或邻近肠管粘连形成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包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穿破肠壁造成肠穿孔，导致局限性腹膜炎或腹腔脓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早期无明显症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消化道症状  消化不良、腹痛、腹泻等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并发症  肠梗阻、肠穿孔和腹膜炎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63200" y="382680"/>
            <a:ext cx="784692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14ac"/>
                </a:solidFill>
                <a:latin typeface="Arial"/>
              </a:rPr>
              <a:t>四、 诊 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流行病学史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食或半生食甲虫史及临床表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虫体检查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自然或服驱虫药后排出的虫体或手术时发现虫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免疫学检查   虫卵抗原皮试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13360"/>
            <a:ext cx="8064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52280" y="6854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流行分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国外仅有数例报道，国内已报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余例，分布于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省、自治区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辖市。辽宁和山东的部分地区呈地方性流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14ac"/>
                </a:solidFill>
                <a:latin typeface="宋体"/>
              </a:rPr>
              <a:t>主要流行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源  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40000"/>
              </a:lnSpc>
              <a:buClr>
                <a:srgbClr val="0000cc"/>
              </a:buClr>
              <a:buFont typeface="Wingdings" charset="2"/>
              <a:buChar char="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饮食习惯  生食或半生食中间宿主鞘翅目昆虫 （天牛、金龟子感染率最高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28760" y="152280"/>
            <a:ext cx="85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14ac"/>
                </a:solidFill>
                <a:latin typeface="Arial"/>
              </a:rPr>
              <a:t>五、流 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12:08:00Z</dcterms:created>
  <dc:creator/>
  <dc:description/>
  <cp:keywords/>
  <dc:language>en-US</dc:language>
  <cp:lastModifiedBy>hzg</cp:lastModifiedBy>
  <dcterms:modified xsi:type="dcterms:W3CDTF">2015-10-06T07:43:49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